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CE7-D893-47CA-A56F-D1BC121C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B6E-1B87-48FA-B1A3-C2A65A06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9E5-0801-47AC-92D4-6EB14582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AA3-5A93-419D-BC3E-494EA54F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B0C-391B-4287-858C-43347422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346-9A38-438C-A48B-4E094112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5F7-D63E-4D31-B0E4-F7BAD126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3F7-6182-4C82-966A-52CE9753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0FF-3675-4535-9F45-D186D25B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101-AD6B-4CAC-B6DD-679811BE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B34-98C5-4867-9FF3-668F826E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E71-8F8C-46A2-A6D4-204BE8C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191F-C5B1-4179-9BB6-FE74EE274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24360" y="117360"/>
            <a:ext cx="4897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30844" dir="3662235" blurRad="0" rotWithShape="0">
                    <a:srgbClr val="000000">
                      <a:alpha val="80000"/>
                    </a:srgbClr>
                  </a:outerShdw>
                </a:effectLst>
                <a:latin typeface="AL-Battar"/>
              </a:rPr>
              <a:t>نظم حيات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30844" dir="3662235" blurRad="0" rotWithShape="0">
                  <a:srgbClr val="000000">
                    <a:alpha val="80000"/>
                  </a:srgbClr>
                </a:outerShdw>
              </a:effectLst>
              <a:latin typeface="AL-Battar"/>
              <a:ea typeface="AL-Battar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5683320"/>
            <a:ext cx="3362400" cy="1015920"/>
          </a:xfrm>
          <a:prstGeom prst="roundRect">
            <a:avLst>
              <a:gd name="adj" fmla="val 39032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4120" y="5668920"/>
            <a:ext cx="3181320" cy="1015920"/>
          </a:xfrm>
          <a:prstGeom prst="roundRect">
            <a:avLst>
              <a:gd name="adj" fmla="val 39032"/>
            </a:avLst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120" y="5661000"/>
            <a:ext cx="30542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AL-Mateen"/>
              </a:rPr>
              <a:t>تنف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AL-Mateen"/>
              </a:rPr>
              <a:t>علي بن حمود الحرب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ستفيد من نقاط قوتي في مشاريع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من وجهة نظري أهم نقاط ضعف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سباب وجود نقاط الضعف لد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907920"/>
            <a:ext cx="79200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هل هناك طريقة في معـــــالجة هذه النقـــــاط مثــل  (الدراسة ، التدريب ، تعويد النفس على بعض الطباع)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907920"/>
            <a:ext cx="79200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هل أستطيع وضع مخطط زمني لمعالجة نقاط ضعف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صفات التي تعجبني في الآخرين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907920"/>
            <a:ext cx="792000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) من أهم الشخصيات الذين أعجب بهم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ن الشخصيات التاريخية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أ)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ب)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ج)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سبب الإعجاب بهم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907920"/>
            <a:ext cx="7920000" cy="58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ateen"/>
              </a:rPr>
              <a:t>ب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ن الشخصيات المعاصر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ateen"/>
              </a:rPr>
              <a:t>ب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سبب الإعجاب بهم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907920"/>
            <a:ext cx="820908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ن هو الشخص الذي كان له أكبر الأثر في حياتي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لماذا كان لهذا الشخص ذلك التأثير الكبير في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907920"/>
            <a:ext cx="7920000" cy="62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سعد لحظات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السبب في كونها لحظات سعيد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765000"/>
            <a:ext cx="3313080" cy="792360"/>
          </a:xfrm>
          <a:custGeom>
            <a:avLst/>
            <a:gdLst>
              <a:gd name="textAreaLeft" fmla="*/ 93240 w 3313080"/>
              <a:gd name="textAreaRight" fmla="*/ 3219840 w 3313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9028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684" y="21600"/>
                </a:lnTo>
                <a:arcTo wR="3600" hR="3600" stAng="10800000" swAng="5400000"/>
                <a:lnTo>
                  <a:pt x="90284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لماذا أعيش ؟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Ho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1916280"/>
            <a:ext cx="4248360" cy="792000"/>
          </a:xfrm>
          <a:custGeom>
            <a:avLst/>
            <a:gdLst>
              <a:gd name="textAreaLeft" fmla="*/ 93240 w 4248360"/>
              <a:gd name="textAreaRight" fmla="*/ 4155120 w 424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582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2222" y="21600"/>
                </a:lnTo>
                <a:arcTo wR="3600" hR="3600" stAng="10800000" swAng="5400000"/>
                <a:lnTo>
                  <a:pt x="11582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3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ماذا سأحقق في حياتي ؟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Ho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068640"/>
            <a:ext cx="5113440" cy="792000"/>
          </a:xfrm>
          <a:custGeom>
            <a:avLst/>
            <a:gdLst>
              <a:gd name="textAreaLeft" fmla="*/ 93240 w 5113440"/>
              <a:gd name="textAreaRight" fmla="*/ 5020200 w 51134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3940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35804" y="21600"/>
                </a:lnTo>
                <a:arcTo wR="3600" hR="3600" stAng="10800000" swAng="5400000"/>
                <a:lnTo>
                  <a:pt x="139404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هل أنا سعـــــــــــــــــــــــــــيد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4221000"/>
            <a:ext cx="5834160" cy="792360"/>
          </a:xfrm>
          <a:custGeom>
            <a:avLst/>
            <a:gdLst>
              <a:gd name="textAreaLeft" fmla="*/ 93240 w 5834160"/>
              <a:gd name="textAreaRight" fmla="*/ 5740920 w 583416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897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379" y="21600"/>
                </a:lnTo>
                <a:arcTo wR="3600" hR="3600" stAng="10800000" swAng="5400000"/>
                <a:lnTo>
                  <a:pt x="15897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هل أنا صادق دائماَ مع نفسي وفي كل علاقاتي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750"/>
                            </p:stCondLst>
                            <p:childTnLst>
                              <p:par>
                                <p:cTn id="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750"/>
                            </p:stCondLst>
                            <p:childTnLst>
                              <p:par>
                                <p:cTn id="10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907920"/>
            <a:ext cx="79200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18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لو كان لدي موارد غير محددة ، ما هي الأعمال التي سأختاره القيام بها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907920"/>
            <a:ext cx="806472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ateen"/>
              </a:rPr>
              <a:t>1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ateen"/>
              </a:rPr>
              <a:t>- لو لم يبقي من عمري سوى ستة أشهر ماذا سأنجز فيها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500280"/>
            <a:ext cx="79200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هم ثلاث أو أربع أمور في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907920"/>
            <a:ext cx="79200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عندما أنظر لعملي الذي أمارسه كل يوم ما هو أهم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        عمل عملته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500280"/>
            <a:ext cx="792000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أعمال اليومية التي أستمتع بأدائها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* يمكن تسجيل الأعمال اليومية وتحليلها لمدة أسبوع لتسهيل إجابة هذا السؤال والذي يلي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1214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عمالي التي لها الأثر الأكبر في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88000" y="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1214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مدى شعوري بالرضا عن مستوى إنجاز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1287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م الفجوة بين ما أريد وما أنا عليه الآن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114300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إجراءات التي أضعها لعلاج هذه الفجوة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663560"/>
            <a:ext cx="79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2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ستطيع رفع مستواي الإيماني والعبادي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9640" y="476280"/>
            <a:ext cx="280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L-Battar"/>
              </a:rPr>
              <a:t>الجانب التطبيقي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L-Battar"/>
              <a:ea typeface="AL-Batt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9080" y="1287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مستواي العملي والثقافي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60360" y="103824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كتب التي أريد أن أقرأها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% في تخصصي 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% في مجالات هامة يجب أن أتحسن فيها)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907920"/>
            <a:ext cx="79200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مجال عملي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4720" y="264960"/>
            <a:ext cx="7920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3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علاقاتي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ateen"/>
              </a:rPr>
              <a:t>أ) مع أهل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ateen"/>
              </a:rPr>
              <a:t>ب) مع أصحاب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ateen"/>
              </a:rPr>
              <a:t>ج) مع المحيطين ب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1143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نفسي صحياً وجسدياً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20640"/>
            <a:ext cx="76312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أوضاعي المالي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ضع مخطط عملي مرتبط بزمن محدد يسهم في تنفيذ 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9080" y="69840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عيوبي التي تمنعني من تحقيق النمو في هذه الجوانب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عالج هذه العيوب وأتجاوزها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176040"/>
            <a:ext cx="417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Matee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Mateen"/>
              </a:rPr>
              <a:t>- لي أدوار في الحياة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Mateen"/>
              </a:rPr>
              <a:t>ماذا أستطيع أن أفعل ليكو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Mateen"/>
              </a:rPr>
              <a:t>أدائي أفضل تجاه كل م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Mateen"/>
              </a:rPr>
              <a:t> (قد لا تنطبق عليك بعض البنو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858960"/>
          <a:ext cx="5329080" cy="5481360"/>
        </p:xfrm>
        <a:graphic>
          <a:graphicData uri="http://schemas.openxmlformats.org/drawingml/2006/table">
            <a:tbl>
              <a:tblPr/>
              <a:tblGrid>
                <a:gridCol w="1220760"/>
                <a:gridCol w="4108320"/>
              </a:tblGrid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أ) الوال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ب) أستاذ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ج) الأصدقاء والجير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د) دوري الفك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هـ) دوري الاجتماع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و) دوري الخي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ز) الجانب الما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ح)............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ط)............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اختر كلمة واحدة من كل قائم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03280" y="981000"/>
          <a:ext cx="2376720" cy="1552680"/>
        </p:xfrm>
        <a:graphic>
          <a:graphicData uri="http://schemas.openxmlformats.org/drawingml/2006/table">
            <a:tbl>
              <a:tblPr/>
              <a:tblGrid>
                <a:gridCol w="1297080"/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MCS Zamzam S_U normal."/>
                          <a:cs typeface="Times New Roman"/>
                        </a:rPr>
                        <a:t>المتعــــ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MCS Zamzam S_U normal."/>
                          <a:cs typeface="Times New Roman"/>
                        </a:rPr>
                        <a:t>الشه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MCS Zamzam S_U normal."/>
                          <a:cs typeface="Times New Roman"/>
                        </a:rPr>
                        <a:t>الثرو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651640" y="2708280"/>
          <a:ext cx="1515960" cy="1552680"/>
        </p:xfrm>
        <a:graphic>
          <a:graphicData uri="http://schemas.openxmlformats.org/drawingml/2006/table">
            <a:tbl>
              <a:tblPr/>
              <a:tblGrid>
                <a:gridCol w="1079640"/>
                <a:gridCol w="436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أمـــــــا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عطا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مغامــــ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564000" y="2781360"/>
          <a:ext cx="1515960" cy="1552680"/>
        </p:xfrm>
        <a:graphic>
          <a:graphicData uri="http://schemas.openxmlformats.org/drawingml/2006/table">
            <a:tbl>
              <a:tblPr/>
              <a:tblGrid>
                <a:gridCol w="901440"/>
                <a:gridCol w="614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عاطف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عل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صحــ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24360" y="4581360"/>
          <a:ext cx="1515960" cy="1552680"/>
        </p:xfrm>
        <a:graphic>
          <a:graphicData uri="http://schemas.openxmlformats.org/drawingml/2006/table">
            <a:tbl>
              <a:tblPr/>
              <a:tblGrid>
                <a:gridCol w="973080"/>
                <a:gridCol w="542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أس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أمــ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أنــــــ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403280" y="4508640"/>
          <a:ext cx="1515960" cy="1552320"/>
        </p:xfrm>
        <a:graphic>
          <a:graphicData uri="http://schemas.openxmlformats.org/drawingml/2006/table">
            <a:tbl>
              <a:tblPr/>
              <a:tblGrid>
                <a:gridCol w="1079280"/>
                <a:gridCol w="43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احة الب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حترام الآخر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حـــــ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60360" y="6301800"/>
            <a:ext cx="89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95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هذا الاختيار يساهم في تحديد أهدافك الرئيسية والتي تنطلق منها لترتيب حيات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جدول أدوارك في الحيا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340000" y="115920"/>
          <a:ext cx="3311640" cy="6654600"/>
        </p:xfrm>
        <a:graphic>
          <a:graphicData uri="http://schemas.openxmlformats.org/drawingml/2006/table">
            <a:tbl>
              <a:tblPr/>
              <a:tblGrid>
                <a:gridCol w="2232000"/>
                <a:gridCol w="10796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هدا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جدول مشاريعي للعام القا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47640" y="614520"/>
          <a:ext cx="4159440" cy="5449680"/>
        </p:xfrm>
        <a:graphic>
          <a:graphicData uri="http://schemas.openxmlformats.org/drawingml/2006/table">
            <a:tbl>
              <a:tblPr/>
              <a:tblGrid>
                <a:gridCol w="2511360"/>
                <a:gridCol w="1648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اريعي خلال العام القاد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جدول مشاريعي للخمس سنوات القادم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476280"/>
          <a:ext cx="4159080" cy="5813280"/>
        </p:xfrm>
        <a:graphic>
          <a:graphicData uri="http://schemas.openxmlformats.org/drawingml/2006/table">
            <a:tbl>
              <a:tblPr/>
              <a:tblGrid>
                <a:gridCol w="1009440"/>
                <a:gridCol w="314964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اريعي خلال الخمس سنوات القادم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907920"/>
            <a:ext cx="7920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رسالة في الحيا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أهداف مح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907920"/>
            <a:ext cx="79200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هتماماتي في الحيا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907920"/>
            <a:ext cx="7920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الهدف الرئيسي لي في الحيا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907920"/>
            <a:ext cx="7920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4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 عندما يترجل الفار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ملأ الفراغ فيما يلي:( تخيل نفسك وقد بلغت من العمر عتيا بعمل صالح إن شاء الله وجلست مع أحفادك أو أحد القريبين منك تتذكر أهم  إنجازاتك في الحيا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* (اكتب اسمك هنا)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* كنت متميزاً في مجال (اكتب المجال الذي تود التميز فيه)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وقد أنجزت إنجازات عظيمة وحققت مشاريع كبيرة من أهمها ما يلي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260280"/>
            <a:ext cx="792000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ختام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لكي تحقق أهدافك في الحياة وترتب أولوياتك قد تحتاج فترة زمنية حتى تستطيع أن تملأ هذه البيانات وتحدد أولوياتك في الحياة المه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عزي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بدء بجد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استعانة بالله تعال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طاعة والبعد عن المعاص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إكثار من الدع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ستشارة الصالحين والمختصي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صلاة الاستخار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حسن إدارة الوق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تطبيق ما توصلت إليه من ترتيب لأولوياتك ووضع جدول مفصل لتطبيقها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ولا تنساني من صالح دعائك وفقك الله تعالى وسدد خطا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907920"/>
            <a:ext cx="7920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هم المبادئ التي أعيش وفقها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907920"/>
            <a:ext cx="835344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هم المشاريع التي أنجزتها في حياتي حتى الآن ؟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907920"/>
            <a:ext cx="79200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ذا أحتاج الآن من قدرات وإمكانات لأحقق مشاريعي المستقبلة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907920"/>
            <a:ext cx="7920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أعمال التي أستمتع عند القيام بها؟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من وجهة نظري أهم نقاط قوت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06:45:41Z</dcterms:created>
  <dc:creator>نصيب</dc:creator>
  <dc:description/>
  <dc:language>en-US</dc:language>
  <cp:lastModifiedBy>نصيب</cp:lastModifiedBy>
  <dcterms:modified xsi:type="dcterms:W3CDTF">2004-06-26T06:01:11Z</dcterms:modified>
  <cp:revision>27</cp:revision>
  <dc:subject/>
  <dc:title>الشريحة 1</dc:title>
</cp:coreProperties>
</file>